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7B25-2998-47D0-A3C9-0E0CD62E9B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910-11B4-432E-8FF8-CB6FC58F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765F-C78E-4CB6-9C6E-1FB635E8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055-E8AF-40B2-8825-BA4551B3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BDE-C90B-452D-9E7B-0731A4E6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186-C4AC-49C5-9412-20E4BAFF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DCE-25CA-4D34-A3E7-3E0CC281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653-706D-4111-BE73-C5AFCE19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288-C9B0-4CB4-9222-B6BE2307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E1B-B394-442B-95AE-7F4B6CF8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F5C-053A-450B-9BFF-F0D7BE83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BDB-00D8-4370-A1F3-21D3895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BEC-E132-4347-A48A-D0320FDA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2EA7-E302-4DC1-99ED-76161339D0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af Structure and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(producer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us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ight ener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make their own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are green because they contain a chemical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 This chemical is used to trap light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contained in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lasts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energy is used to chang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rbon dioxid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ar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equation for photosynthes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bon    +  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ch  + 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373392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4800" y="38894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5133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95280" y="1020600"/>
            <a:ext cx="6686640" cy="5837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40:41Z</dcterms:created>
  <dc:creator>hhashmi</dc:creator>
  <dc:description/>
  <dc:language>en-US</dc:language>
  <cp:lastModifiedBy>LEGION2</cp:lastModifiedBy>
  <dcterms:modified xsi:type="dcterms:W3CDTF">2016-01-13T08:43:48Z</dcterms:modified>
  <cp:revision>7</cp:revision>
  <dc:subject/>
  <dc:title>Leaf Structure and Photosynthesis</dc:title>
</cp:coreProperties>
</file>